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4A040-2873-4A91-875F-D107BCEB2D0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6A9E0-C00A-4BE5-9D78-A873CDB34422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4485-14E8-4E64-B436-2F337B8D7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EEAE-96B0-4285-91D0-F555878D7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8088-0137-4AB2-AF19-EC665410C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1E6C-194D-4F5D-B5EC-9484E5480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1D4C-D54B-4884-B4BC-5D11137C2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F469-F8E0-4F98-93BB-480472A3A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130E-574B-4157-B777-409234FAD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95BF-628B-4AD6-97AA-EDD5AD435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B186-F6BB-446B-B63B-52D47802C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EFE3-BA4C-44CA-B2DC-B602C035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74DA-17C7-49F9-9E76-EC06C027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1FD7-DBA1-4502-A537-515A008E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79">
            <a:alpha val="6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CAFF1-4AC7-4C82-86C6-5451BAC3B429}" type="slidenum">
              <a:rPr b="0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дма недеља наставе, 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09 ТОКСИКОЛОГИЈА – КЛИНИЧКИ, ЕКОЛОШКИ И ЕКСПЕРИМЕНТАЛНИ АСПЕК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28840" y="4642920"/>
            <a:ext cx="6400800" cy="14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ф. Слободан Јанков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Оздрављењ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Шестог дана од тровања пацијент се отпушта из болнице са нормалним ЕКГ налаз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лучај описали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oppellari R, Lamborghini S, Ferri E, Tosi S, Butera R, Petrolini V, Guberti A.  Poisoning by intentional digoxin intravenous  injection : a case report treated with digoxin-specific antibody fragments. Education course in clinical toxicology. Pavia 200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760" y="23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Тровање аниаритмици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395280" y="1343160"/>
          <a:ext cx="8229600" cy="4533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55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оксична деј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нтиаритм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-P-W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з атријалну фибрилациј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игокс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ерапами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илтиазе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425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нфранодални поремећај спровођењ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r>
                        <a:rPr b="0" lang="sr-C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блокатор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мјодар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457200" y="404640"/>
          <a:ext cx="8229600" cy="4591080"/>
        </p:xfrm>
        <a:graphic>
          <a:graphicData uri="http://schemas.openxmlformats.org/drawingml/2006/table">
            <a:tbl>
              <a:tblPr/>
              <a:tblGrid>
                <a:gridCol w="3898800"/>
                <a:gridCol w="4330800"/>
              </a:tblGrid>
              <a:tr h="141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оксична деј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нтиаритм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17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одужен QT-интерва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хинид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окаинами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изопирами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отал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офетили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бутули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мјодаро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539640" y="476280"/>
          <a:ext cx="8229600" cy="5275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51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оксична деј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нтиаритм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959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ијареј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хинид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оста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Глауко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изопирами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88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ртрити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окаинами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88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Болест плућ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мјодар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395280" y="404640"/>
          <a:ext cx="8229600" cy="5456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32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оксична деј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нтиаритм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32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нсуфицијенција срц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изопирами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флекаини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80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исфункција С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ли АВ чво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игокс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ерапами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илтиазе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Arial Unicode MS"/>
                        </a:rPr>
                        <a:t>      </a:t>
                      </a: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Comic Sans MS"/>
                          <a:ea typeface="Arial Unicode MS"/>
                        </a:rPr>
                        <a:t>β</a:t>
                      </a: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блокатор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мјодар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39640" y="549360"/>
          <a:ext cx="8229600" cy="57531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50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оксична деј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нтиаритм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ремо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ексилет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окаини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80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пстипациј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ерапами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404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огоршање астм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огоршање периферне болести артериј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Хипогликемиј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</a:t>
                      </a: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Comic Sans MS"/>
                          <a:ea typeface="Arial Unicode MS"/>
                        </a:rPr>
                        <a:t>β</a:t>
                      </a: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блокатор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</a:t>
                      </a: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опафен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Кардиотонички гликозиди - струк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1100160" y="1700280"/>
            <a:ext cx="694368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Биљке које садрже кардиотони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Arial"/>
              </a:rPr>
              <a:t>Ђурђевак –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nvallaria majalis</a:t>
            </a:r>
            <a:r>
              <a:rPr b="0" lang="sr-CS" sz="2700" spc="-1" strike="noStrike">
                <a:solidFill>
                  <a:srgbClr val="000000"/>
                </a:solidFill>
                <a:latin typeface="Arial"/>
              </a:rPr>
              <a:t>: садржи конвалотокси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Arial"/>
              </a:rPr>
              <a:t>Вунаста пустикара –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gitalis lanata</a:t>
            </a:r>
            <a:r>
              <a:rPr b="0" lang="sr-CS" sz="2700" spc="-1" strike="noStrike">
                <a:solidFill>
                  <a:srgbClr val="000000"/>
                </a:solidFill>
                <a:latin typeface="Arial"/>
              </a:rPr>
              <a:t>: садржи дигитоксин, дигоксин, гиталин, гитокси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Arial"/>
              </a:rPr>
              <a:t>Лијандер –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rium Oleander</a:t>
            </a:r>
            <a:r>
              <a:rPr b="0" lang="sr-CS" sz="2700" spc="-1" strike="noStrike">
                <a:solidFill>
                  <a:srgbClr val="000000"/>
                </a:solidFill>
                <a:latin typeface="Arial"/>
              </a:rPr>
              <a:t>: садржи олеандри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Механизам дејства кардиото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нхибирају На</a:t>
            </a:r>
            <a:r>
              <a:rPr b="0" lang="sr-C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sr-C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ТП-азу, услед чега доводе до повећања уласка калцијума у ћелије миокарда и појачане контрактил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споравају спровођење у АВ-чво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већавају раздражљивост ћелија миокарда и спроводног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Симптоми и знаци тровањ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учнина, повраћ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Замућен вид, предмети изгледају жути или зел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спорен пулс, АВ бл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нвулз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тказивање СА чвора, појава предводника у АВ чво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Бигеминија, коморска тахикардија, фибрилација, синкопа и см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Случај тровања кардиотоник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едесет-двогодишњи лекар опште праксе, који је боловао од депресије, је себи убризгао интравенски садржај 30 ампула метил-дигоксина (0.2 мг по ампул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имљен је на клинику 2 сата после ињек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Симптоми и знац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враћао 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ртеријски притисак је 125/80 ммХ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А чвор је отказа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улс је 70/мин, предводник је негде у преткомора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иво дигоксина у серуму је био 13 нг/мл (терапијски опсег је 0.6 – 2 нг/м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Терап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ацијент прима 456 мг Фаб фрагмената током 30 мину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 новом ЕКГ-у се види синусни ритам са ПР интервалом од 0.2 секун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ацијент добија инсулин и глукозу, што успешно смањује ниво калијума, који је био 5.5 мМ/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Даљи т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У наредних 45 сати пацијент је више пута повраћао, имао халуцинације и поремећај вид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ЕКГ је рађен после 16 и 28 сати, уочен је АВ блок првог степена (ПР интервал 0.24 секунде) и обрнут Т-тала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ЕКГ после 40 сати показује повремено АВ-блок 3. степе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осле 42 сата на ЕКГ-у се виде екстрасистол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4T12:23:24Z</dcterms:created>
  <dc:creator>Korisnik</dc:creator>
  <dc:description/>
  <dc:language>en-US</dc:language>
  <cp:lastModifiedBy>Slobodan Jankovic</cp:lastModifiedBy>
  <dcterms:modified xsi:type="dcterms:W3CDTF">2013-01-26T20:59:05Z</dcterms:modified>
  <cp:revision>81</cp:revision>
  <dc:subject/>
  <dc:title>Slide 1</dc:title>
</cp:coreProperties>
</file>